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FAD-17D0-46A3-B79F-F90FF25C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67F-3F56-45B4-A196-08DFD07F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79A-0897-4F86-9F84-4A8FA0A3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A45-5DBA-4B6F-BDCC-CB688F7C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199-1767-432A-B372-EC025C48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14E-DAA2-4594-A026-AB93FAA1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EBF-F629-439A-AA10-2CD226B0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84C-77E7-4992-BC67-F3C41C99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808-55C2-4BF7-899F-AD4FA11E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7CB-4760-417B-BDC3-B4B8D455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DFC-9BD3-4289-B6E9-F9189AA1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A6A-ABC5-4B07-B6C8-CBCF1519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5995-0A97-4EE8-853B-EF1D2233A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Me llamo ___________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 Clase 6NH(602) La fecha es el 10 de en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ropósito # 30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son verbos de cambio rad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thout looking in your notes or textbook, try to label as many body parts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33560" y="3276720"/>
            <a:ext cx="32958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243792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81952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91120" y="3429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14800" y="38862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41148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04760" y="4419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4495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905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819160" y="55627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6477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133720" y="5105520"/>
            <a:ext cx="2133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9528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5053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a cab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3200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os o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18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a na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962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a b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42670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a 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248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l 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5638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a pi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105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a rod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4632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l br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9625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a m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3080" y="351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208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2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40840" y="397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6788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248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5638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51814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6483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6040" y="4191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Repaso de la Tarea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 p. 3; Write the word being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que ju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que guarda la port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que mira el 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conjunto o grupo de jug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victori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dejar o permitir ent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contrario de “gan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er el balón en la porter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15238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la jugador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1477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la portero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743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la espectador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3276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38862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a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4419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bloqu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5029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e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6186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arcar un tanto (meter un g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036440"/>
            <a:ext cx="8610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recognize SPANISH ver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690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l Spanish verbs end in either –AR, -ER or -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o “conjugate” a verb means to change it in order to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052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1. Find the INFINITIVE verb ending.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(-ar, -er, -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73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2. Remove the INFINITIVE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erb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5306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3. Replace with the appropriate NEW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ndings for verbs in the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,Ella,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,Ellas,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320" y="19051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2040" y="2452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8000" y="2986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70120" y="3519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572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-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78920" y="4510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31560" y="1828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5240" y="23763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43800" y="2909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89280" y="35053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41400" y="35193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004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76560" y="40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7880" y="4586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1905120"/>
            <a:ext cx="3812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5720" y="3124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5720" y="397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5360" y="4433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5720" y="481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6080" y="52578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5360" y="5715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5720" y="6110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Guardar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omer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ub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 flipV="1">
            <a:off x="33526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95040" y="48769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Guard</a:t>
            </a:r>
            <a:r>
              <a:rPr b="0" i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03480" y="489096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Com</a:t>
            </a: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76920" y="49672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716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uard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60480" y="27576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uard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36800" y="351936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uard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80680" y="419112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uard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97560" y="5638680"/>
            <a:ext cx="16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uard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45320" y="199548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m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8240" y="2757600"/>
            <a:ext cx="13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m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70520" y="35053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m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90360" y="420516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m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4920" y="56530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m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47400" y="1981080"/>
            <a:ext cx="10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47040" y="275760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10400" y="351936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02960" y="42670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47400" y="5653080"/>
            <a:ext cx="12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dcterms:modified xsi:type="dcterms:W3CDTF">2013-01-09T20:32:33Z</dcterms:modified>
  <cp:revision>25</cp:revision>
  <dc:subject/>
  <dc:title>Me llamo ___________  Clase 7 IM La fecha es el 18 de noviembre del 2010</dc:title>
</cp:coreProperties>
</file>